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C74D74-2568-412C-87D3-11B2A2E80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E6CB1-CA62-4045-8842-CD29C692C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B0195-728C-4A2A-8C52-C5E0376F8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97A97-F626-421C-8E78-678B79951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9B622-7542-46AD-86BD-2B32863AB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422AA-87D4-403E-B0A8-7E7CD0B92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0E143-AAFE-4A25-93E6-589E5104F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BDFDA-6570-4FC1-83A1-0251C92E7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C6907-D4BD-4D23-BDB5-0B62DB1AD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D9AED-84DF-4738-9A20-D0A449C7C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07713-42DB-49EC-ABCA-1CBAE774F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54977-986C-4F56-A104-6DDC54AE32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6C1AA-1A86-4680-BEFF-C510B8BD56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SIMFONIA</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000000"/>
                </a:solidFill>
                <a:latin typeface="Arial"/>
              </a:rPr>
              <a:t>)</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Picture 10" descr=""/>
          <p:cNvPicPr/>
          <p:nvPr/>
        </p:nvPicPr>
        <p:blipFill>
          <a:blip r:embed="rId1"/>
          <a:stretch/>
        </p:blipFill>
        <p:spPr>
          <a:xfrm>
            <a:off x="5214960" y="928800"/>
            <a:ext cx="3002040" cy="300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000000"/>
                </a:solidFill>
                <a:latin typeface="Arial"/>
              </a:rPr>
              <a:t>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000000"/>
                </a:solidFill>
                <a:latin typeface="Arial"/>
              </a:rPr>
              <a:t>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 Schumann, J. Sibelius, H. Berlioz, A. Dvorak, G. Mahler, I. Stravinsk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ancez, ceh, austriac, rus, finlandez, german.</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ţi următoarele numere şi scrieţi în dreptul fiecăruia numele compozitorului care a scri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4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5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11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9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7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6 simfonii.</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opiaţi pe caiete şi completaţi grila urmă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a _ _ _ _ _ S _ _ _ _ de Berlioz;</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ompozitor francez (Hector _ _ _ _ I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 Romantism, numărul părţilor se _ _ _ _ F _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e cu _ _ O _ _ _ _.</a:t>
            </a:r>
            <a:endParaRPr b="0" lang="en-US" sz="1200" spc="-1" strike="noStrike">
              <a:solidFill>
                <a:srgbClr val="000000"/>
              </a:solidFill>
              <a:latin typeface="Calibri"/>
            </a:endParaRPr>
          </a:p>
        </p:txBody>
      </p:sp>
      <p:sp>
        <p:nvSpPr>
          <p:cNvPr id="4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LiviaT</cp:lastModifiedBy>
  <dcterms:modified xsi:type="dcterms:W3CDTF">2012-03-14T13:55:50Z</dcterms:modified>
  <cp:revision>45</cp:revision>
  <dc:subject/>
  <dc:title>SALARIUL</dc:title>
</cp:coreProperties>
</file>